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6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F09D-EF7C-4EB1-9EB5-F53D783BD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908A-DFB8-4A4A-B6F9-37048E3E1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6B85-E009-44AA-9CA6-FF77CA27D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187F-4792-41BF-97D3-F203C51C6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4BA7-9C5F-4931-81F4-9A8171EC1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5C38-00CD-498D-98F6-DA08C6650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EF5A-BCB3-4A71-8409-C74F7860C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787E-C9E7-43D3-AD59-4AE644E87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D71D-DC4A-4852-A408-00E81D011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BB52-4686-44BB-BC9D-3EC9B077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4F1D-B913-4AD1-A018-B9F547C0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D322-748E-4A49-93C3-BD80CED1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B0834-A0EC-4DF5-8B15-93C45DA90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v.dontr.ru/dontr_static_pages/ad/images/advert_index.jpg" TargetMode="External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v.dontr.ru/dontr_static_pages/ad/images/advert_index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hyperlink" Target="http://www.measurement.ru/gk/electro/images/Image569.gif" TargetMode="External"/><Relationship Id="rId4" Type="http://schemas.openxmlformats.org/officeDocument/2006/relationships/image" Target="../media/image6.png"/><Relationship Id="rId5" Type="http://schemas.openxmlformats.org/officeDocument/2006/relationships/hyperlink" Target="http://ru.wikipedia.org/wiki/&#1048;&#1079;&#1086;&#1073;&#1088;&#1072;&#1078;&#1077;&#1085;&#1080;&#1077;:Hw-watt.jpg" TargetMode="External"/><Relationship Id="rId6" Type="http://schemas.openxmlformats.org/officeDocument/2006/relationships/image" Target="../media/image7.png"/><Relationship Id="rId7" Type="http://schemas.openxmlformats.org/officeDocument/2006/relationships/hyperlink" Target="http://ru.wikipedia.org/wiki/&#1048;&#1079;&#1086;&#1073;&#1088;&#1072;&#1078;&#1077;&#1085;&#1080;&#1077;:Papinengine.jpg" TargetMode="External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v.dontr.ru/dontr_static_pages/ad/images/advert_index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v.dontr.ru/dontr_static_pages/ad/images/advert_index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v.dontr.ru/dontr_static_pages/ad/images/advert_index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v.dontr.ru/dontr_static_pages/ad/images/advert_index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v.dontr.ru/dontr_static_pages/ad/images/advert_index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Природа - Горы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832360" y="907920"/>
            <a:ext cx="3311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ш мир многообраз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с окружает множество объек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63528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нформац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244" name="" descr="Картинка 25 из 26668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981000"/>
            <a:ext cx="1798560" cy="24480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262728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132000" y="184464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35280" y="184464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140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3280" y="184464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148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65164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156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65964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164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62728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132000" y="234792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35280" y="234792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40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643280" y="234792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148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65164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156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65964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164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3200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63528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140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148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65164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156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65964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164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643280" y="184464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146560" y="184464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65164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156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65964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164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140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643280" y="234792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148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65164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156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65964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164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62728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13200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140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64328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148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643280" y="1844640"/>
            <a:ext cx="505080" cy="504720"/>
          </a:xfrm>
          <a:prstGeom prst="rect">
            <a:avLst/>
          </a:prstGeom>
          <a:solidFill>
            <a:srgbClr val="f5dd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643280" y="2347920"/>
            <a:ext cx="505080" cy="504720"/>
          </a:xfrm>
          <a:prstGeom prst="rect">
            <a:avLst/>
          </a:prstGeom>
          <a:solidFill>
            <a:srgbClr val="f5dd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643280" y="2852640"/>
            <a:ext cx="505080" cy="505080"/>
          </a:xfrm>
          <a:prstGeom prst="rect">
            <a:avLst/>
          </a:prstGeom>
          <a:solidFill>
            <a:srgbClr val="f5dd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700360" y="4005360"/>
            <a:ext cx="3384360" cy="100836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Би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именьшая единица измерения, которую ввёл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Клод Шенн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4"/>
          <a:stretch/>
        </p:blipFill>
        <p:spPr>
          <a:xfrm>
            <a:off x="179280" y="4076640"/>
            <a:ext cx="19195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нформац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300" name="" descr="Картинка 25 из 26668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981000"/>
            <a:ext cx="1798560" cy="244800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2556000" y="134136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диницы измер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56000" y="1916280"/>
            <a:ext cx="2808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айт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бай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бай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бай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нформац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304" name="" descr="Картинка 25 из 266689"/>
          <p:cNvPicPr/>
          <p:nvPr/>
        </p:nvPicPr>
        <p:blipFill>
          <a:blip r:embed="rId2"/>
          <a:stretch/>
        </p:blipFill>
        <p:spPr>
          <a:xfrm>
            <a:off x="250920" y="981000"/>
            <a:ext cx="1798560" cy="24480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2556000" y="1916280"/>
            <a:ext cx="5761080" cy="26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казывается: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 байт = 8 би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Кбайт (один килобайт) = 1024 бай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Мбайт (один мегабайт) = 1024 Кбай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Гбайт (один гигабайт) = 1024 Мбай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2124000" y="698400"/>
            <a:ext cx="7020000" cy="55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нформац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308" name=""/>
          <p:cNvSpPr/>
          <p:nvPr/>
        </p:nvSpPr>
        <p:spPr>
          <a:xfrm>
            <a:off x="2556000" y="1773360"/>
            <a:ext cx="4319640" cy="88668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би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буква в клетке кроссвор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692360" y="1773360"/>
            <a:ext cx="504720" cy="504720"/>
          </a:xfrm>
          <a:prstGeom prst="rect">
            <a:avLst/>
          </a:prstGeom>
          <a:solidFill>
            <a:srgbClr val="f5dd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627280" y="3141720"/>
            <a:ext cx="4176720" cy="88668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бай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символ, введенный с клавиа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Обои для компьютера"/>
          <p:cNvPicPr/>
          <p:nvPr/>
        </p:nvPicPr>
        <p:blipFill>
          <a:blip r:embed="rId2"/>
          <a:stretch/>
        </p:blipFill>
        <p:spPr>
          <a:xfrm>
            <a:off x="250920" y="2852640"/>
            <a:ext cx="1979640" cy="14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нформац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313" name=""/>
          <p:cNvSpPr/>
          <p:nvPr/>
        </p:nvSpPr>
        <p:spPr>
          <a:xfrm>
            <a:off x="2411280" y="2133720"/>
            <a:ext cx="5187960" cy="88668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 Кбай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фотография в низком разреш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1280" y="3645000"/>
            <a:ext cx="5135760" cy="88668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Мбай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небольшая художественная кни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 "/>
          <p:cNvPicPr/>
          <p:nvPr/>
        </p:nvPicPr>
        <p:blipFill>
          <a:blip r:embed="rId2"/>
          <a:stretch/>
        </p:blipFill>
        <p:spPr>
          <a:xfrm>
            <a:off x="539640" y="1628640"/>
            <a:ext cx="1582920" cy="15829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3"/>
          <a:stretch/>
        </p:blipFill>
        <p:spPr>
          <a:xfrm>
            <a:off x="539640" y="3573360"/>
            <a:ext cx="158436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2627280" y="2205000"/>
            <a:ext cx="554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едавнем исследовании аналитики компании IDC попытались оценить общий объем цифровой информации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енерируемой в мире ежеднев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 пришли к выводу, что в прошлом году был создан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61 экзабай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61 миллиард гигабайт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разнообразных данных - цифровых фотографий, видео, электронных писем, интернет-пейджинговых сообщений, звонков посредством IP-телефонии и т.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6877080" y="260280"/>
            <a:ext cx="2016000" cy="96696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Картинка 45 из 149"/>
          <p:cNvPicPr/>
          <p:nvPr/>
        </p:nvPicPr>
        <p:blipFill>
          <a:blip r:embed="rId3"/>
          <a:stretch/>
        </p:blipFill>
        <p:spPr>
          <a:xfrm>
            <a:off x="108000" y="2349360"/>
            <a:ext cx="208764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3708360" y="981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еревод в би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708360" y="162864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 байт = 12 * 8 = 96 (би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708360" y="2349360"/>
            <a:ext cx="331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 Кб = 2 * 1024 * 8  = 16384 (би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3708360" y="981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еревод в би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708360" y="162864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 байт = 12 * 8 = 96 (би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708360" y="2276640"/>
            <a:ext cx="1008000" cy="431640"/>
          </a:xfrm>
          <a:prstGeom prst="rect">
            <a:avLst/>
          </a:prstGeom>
          <a:solidFill>
            <a:srgbClr val="eef7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уп. 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219640" y="2276640"/>
            <a:ext cx="1008000" cy="431640"/>
          </a:xfrm>
          <a:prstGeom prst="rect">
            <a:avLst/>
          </a:prstGeom>
          <a:solidFill>
            <a:srgbClr val="eef7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л. 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716360" y="2492280"/>
            <a:ext cx="503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516720" y="2376360"/>
            <a:ext cx="576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3708360" y="981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еревод в бай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708360" y="162864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4 бита = 24 : 8 = 3 (байт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708360" y="2276640"/>
            <a:ext cx="1008000" cy="431640"/>
          </a:xfrm>
          <a:prstGeom prst="rect">
            <a:avLst/>
          </a:prstGeom>
          <a:solidFill>
            <a:srgbClr val="eef7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л. 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219640" y="2276640"/>
            <a:ext cx="1008000" cy="431640"/>
          </a:xfrm>
          <a:prstGeom prst="rect">
            <a:avLst/>
          </a:prstGeom>
          <a:solidFill>
            <a:srgbClr val="eef7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уп. 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716360" y="2492280"/>
            <a:ext cx="503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516720" y="2243160"/>
            <a:ext cx="576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2852640"/>
            <a:ext cx="2124000" cy="863640"/>
          </a:xfrm>
          <a:prstGeom prst="ellipse">
            <a:avLst/>
          </a:prstGeom>
          <a:gradFill rotWithShape="0">
            <a:gsLst>
              <a:gs pos="0">
                <a:srgbClr val="bfd9ef"/>
              </a:gs>
              <a:gs pos="50000">
                <a:srgbClr val="ffffff"/>
              </a:gs>
              <a:gs pos="100000">
                <a:srgbClr val="bfd9e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ras Medium ITC"/>
              </a:rPr>
              <a:t>Объе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64000" y="1844640"/>
            <a:ext cx="2808360" cy="720720"/>
          </a:xfrm>
          <a:prstGeom prst="rect">
            <a:avLst/>
          </a:prstGeom>
          <a:gradFill rotWithShape="0">
            <a:gsLst>
              <a:gs pos="0">
                <a:srgbClr val="bfd9ef"/>
              </a:gs>
              <a:gs pos="50000">
                <a:srgbClr val="ffffff"/>
              </a:gs>
              <a:gs pos="100000">
                <a:srgbClr val="bfd9e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ras Medium ITC"/>
              </a:rPr>
              <a:t>Вещ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64000" y="2852640"/>
            <a:ext cx="2808360" cy="720720"/>
          </a:xfrm>
          <a:prstGeom prst="rect">
            <a:avLst/>
          </a:prstGeom>
          <a:gradFill rotWithShape="0">
            <a:gsLst>
              <a:gs pos="0">
                <a:srgbClr val="bfd9ef"/>
              </a:gs>
              <a:gs pos="50000">
                <a:srgbClr val="ffffff"/>
              </a:gs>
              <a:gs pos="100000">
                <a:srgbClr val="bfd9e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ras Medium ITC"/>
              </a:rPr>
              <a:t>Энер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64000" y="3860640"/>
            <a:ext cx="2808360" cy="720720"/>
          </a:xfrm>
          <a:prstGeom prst="rect">
            <a:avLst/>
          </a:prstGeom>
          <a:gradFill rotWithShape="0">
            <a:gsLst>
              <a:gs pos="0">
                <a:srgbClr val="bfd9ef"/>
              </a:gs>
              <a:gs pos="50000">
                <a:srgbClr val="ffffff"/>
              </a:gs>
              <a:gs pos="100000">
                <a:srgbClr val="bfd9e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ras Medium ITC"/>
              </a:rPr>
              <a:t>Информ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340000" y="2133720"/>
            <a:ext cx="1224000" cy="2158920"/>
            <a:chOff x="2340000" y="2133720"/>
            <a:chExt cx="1224000" cy="2158920"/>
          </a:xfrm>
        </p:grpSpPr>
        <p:sp>
          <p:nvSpPr>
            <p:cNvPr id="48" name=""/>
            <p:cNvSpPr/>
            <p:nvPr/>
          </p:nvSpPr>
          <p:spPr>
            <a:xfrm>
              <a:off x="2340000" y="3213000"/>
              <a:ext cx="43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640" y="2133720"/>
              <a:ext cx="0" cy="215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71640" y="2133720"/>
              <a:ext cx="79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771640" y="3213000"/>
              <a:ext cx="79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71640" y="4292640"/>
              <a:ext cx="79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2484360" y="1773360"/>
            <a:ext cx="47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йдите информационный объем слов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ФОРМАТИ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095600" y="187200"/>
            <a:ext cx="14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484360" y="3068640"/>
            <a:ext cx="532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ФОРМАТИКА – 11 символов, следовательно, это сообщение несет в себе информационный объем раве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*1 = 11 бай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*1*8= 88 бит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42160" y="299736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2340000" y="1341360"/>
            <a:ext cx="540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колько школьных учебников емкостью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50 Кбай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можно разместить на трехдюймовой дискете, если объем трехдюймовой дискеты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44 Мбай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095600" y="187200"/>
            <a:ext cx="14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484360" y="3573360"/>
            <a:ext cx="532944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Мбайт=1024 Кбай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,44Мбайт = 1,44*1024 = 1474,56 Кбай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74,56 Кбайт / 350 Кбайт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учеб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42160" y="350028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2988000" y="26028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бъём информационных нос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179280" y="1413000"/>
          <a:ext cx="5688000" cy="4032000"/>
        </p:xfrm>
        <a:graphic>
          <a:graphicData uri="http://schemas.openxmlformats.org/drawingml/2006/table">
            <a:tbl>
              <a:tblPr/>
              <a:tblGrid>
                <a:gridCol w="2845080"/>
                <a:gridCol w="284292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си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ё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45" name="" descr="Картинка 37 из 5117"/>
          <p:cNvPicPr/>
          <p:nvPr/>
        </p:nvPicPr>
        <p:blipFill>
          <a:blip r:embed="rId2"/>
          <a:stretch/>
        </p:blipFill>
        <p:spPr>
          <a:xfrm>
            <a:off x="971640" y="1989000"/>
            <a:ext cx="1296720" cy="109224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3"/>
          <a:stretch/>
        </p:blipFill>
        <p:spPr>
          <a:xfrm>
            <a:off x="900000" y="3168720"/>
            <a:ext cx="1219320" cy="102852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4"/>
          <a:stretch/>
        </p:blipFill>
        <p:spPr>
          <a:xfrm>
            <a:off x="1116000" y="4292640"/>
            <a:ext cx="102888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2988000" y="26028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бъём информационных нос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79280" y="1413000"/>
          <a:ext cx="5688000" cy="4032000"/>
        </p:xfrm>
        <a:graphic>
          <a:graphicData uri="http://schemas.openxmlformats.org/drawingml/2006/table">
            <a:tbl>
              <a:tblPr/>
              <a:tblGrid>
                <a:gridCol w="2845080"/>
                <a:gridCol w="284292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си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ё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,44 Мбай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0-120 Гбай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50 Мбай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,7 Гбайт- 17 Гбай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50" name="" descr="Картинка 37 из 5117"/>
          <p:cNvPicPr/>
          <p:nvPr/>
        </p:nvPicPr>
        <p:blipFill>
          <a:blip r:embed="rId2"/>
          <a:stretch/>
        </p:blipFill>
        <p:spPr>
          <a:xfrm>
            <a:off x="971640" y="1989000"/>
            <a:ext cx="1296720" cy="109224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3"/>
          <a:stretch/>
        </p:blipFill>
        <p:spPr>
          <a:xfrm>
            <a:off x="900000" y="3168720"/>
            <a:ext cx="1219320" cy="102852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4"/>
          <a:stretch/>
        </p:blipFill>
        <p:spPr>
          <a:xfrm>
            <a:off x="1116000" y="4292640"/>
            <a:ext cx="102888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2411280" y="2205000"/>
            <a:ext cx="6121440" cy="184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ова основная единица измерения информации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колько байт содержит 1 Кб информации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 подсчитать количество информации, передаваемое в символьном сообщении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822480" y="352440"/>
            <a:ext cx="34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опросы для самоконтро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9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4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9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Вещество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79280" y="907920"/>
            <a:ext cx="2089080" cy="1290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395280" y="2637000"/>
            <a:ext cx="1523880" cy="1904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498920" y="2276640"/>
            <a:ext cx="4645080" cy="100836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Грам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— изначально определялся как масса 1 см³ воды при температуре 4 °C и давлении в 1 атмосфер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56000" y="134136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диницы измер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56000" y="1916280"/>
            <a:ext cx="2808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илограм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н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ентн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рат (0,2 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57080" y="4003560"/>
            <a:ext cx="4547160" cy="100836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Килограм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определяется как м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талонного килограмма, хранящего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алате ме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и весов около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ариж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Энерг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61" name=""/>
          <p:cNvSpPr/>
          <p:nvPr/>
        </p:nvSpPr>
        <p:spPr>
          <a:xfrm>
            <a:off x="4427640" y="2637000"/>
            <a:ext cx="3095640" cy="210564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Ват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диница названа в честь шотландско-ирландского изобретателя-механика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Джеймса Уат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Ватта), создателя универсальной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аровой машин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56000" y="134136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диницы измер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56000" y="1916280"/>
            <a:ext cx="280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жо́у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ло́рия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т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24000" y="981000"/>
            <a:ext cx="1454040" cy="1800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Картинка 4 из 1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9280" y="3284640"/>
            <a:ext cx="2017800" cy="1947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Джеймс Уатт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634160" y="2708280"/>
            <a:ext cx="1509840" cy="2089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Первая паровая машина Папена. 169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238560" y="3933720"/>
            <a:ext cx="77616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нформац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69" name=""/>
          <p:cNvSpPr/>
          <p:nvPr/>
        </p:nvSpPr>
        <p:spPr>
          <a:xfrm>
            <a:off x="2556000" y="177336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ем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Картинка 25 из 26668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981000"/>
            <a:ext cx="1798560" cy="244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2556000" y="2349360"/>
            <a:ext cx="62672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Единицы измерения информац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нформац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73" name="" descr="Картинка 25 из 26668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981000"/>
            <a:ext cx="1798560" cy="244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62728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3200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3528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140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4328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148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65164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56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65964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4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62728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132000" y="249228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635280" y="249228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43280" y="249228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148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65164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56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65964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164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62728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2000" y="299736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635280" y="299736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40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299736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48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5164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56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65964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164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нформац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105" name="" descr="Картинка 25 из 26668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981000"/>
            <a:ext cx="1798560" cy="244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62728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200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3528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40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4328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148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56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65964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164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62728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32000" y="249228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35280" y="249228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140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3280" y="249228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148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65164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56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65964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164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2728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132000" y="299736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35280" y="299736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140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3280" y="299736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148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65164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56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5964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164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71640" y="3789360"/>
            <a:ext cx="30956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Как же пишутся программы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особых языках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 из них простейшим самым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числится пок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4328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4656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5164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56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65964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164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нформац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144" name="" descr="Картинка 25 из 26668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981000"/>
            <a:ext cx="1798560" cy="244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62728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3200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3528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40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48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65164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65964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164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62728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32000" y="249228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35280" y="249228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40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43280" y="249228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48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5164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56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65964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164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2728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32000" y="299736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635280" y="299736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40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43280" y="299736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5164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56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65964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164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43280" y="3645000"/>
            <a:ext cx="309564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У тебя вопросов много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скажу тебе я с кем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ы в режиме диалога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можешь сто решить проблем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вечает без капризов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давай вопрос быстрей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тот умный телевизор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зывается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4328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4656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5164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56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65964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164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40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43280" y="249228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148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65164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156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65964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164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63528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нформац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191" name="" descr="Картинка 25 из 26668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981000"/>
            <a:ext cx="1798560" cy="2448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62728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132000" y="184464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635280" y="184464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140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43280" y="184464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148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5164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156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65964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164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62728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132000" y="234792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635280" y="234792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140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643280" y="234792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148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65164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156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65964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4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62728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3528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140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4328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148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65164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156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65964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164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41520" y="3429000"/>
            <a:ext cx="388800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Тут нам надо разобраться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я чего же этот ящик?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н в себя бумагу тащит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сейчас же буквы, точки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пятые – строчка к строчке –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печатает в момент!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чень нужный инструмент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печатает картинку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овкий мастер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руйный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43280" y="184464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146560" y="184464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65164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56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65964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164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140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643280" y="234792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48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65164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56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65964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164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62728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13200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140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48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65164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14:58:26Z</dcterms:created>
  <dc:creator>User</dc:creator>
  <dc:description/>
  <dc:language>en-US</dc:language>
  <cp:lastModifiedBy>User</cp:lastModifiedBy>
  <dcterms:modified xsi:type="dcterms:W3CDTF">2008-01-30T18:46:57Z</dcterms:modified>
  <cp:revision>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